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4383-65C9-4E23-8E3B-94585D22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94E9-6C23-4A2B-8CDC-E60D310C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632E-46DF-435C-8642-EFDDE9BB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00D5-5B03-46F1-945A-C18B8C1C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8783-1A09-47FE-A3A1-1647E738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BC23-A0D3-404D-9E22-898265F3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2FFD-1692-4046-929F-AA8F0572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60BB-B707-4265-8F1A-CCDFCF91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C476-6D73-43ED-B75A-C09CC5F7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E02C-1E0E-4D30-A1F9-ECEB2B38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6903-1273-42BD-9E26-AA9AFB10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923C-5C69-48D5-BB26-E0F4F559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00DA-B7E2-4CBF-92E3-3504C404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F183-2B35-463E-823E-52BDFC02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E305-2C9A-40A9-8E42-DD71A4CA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F102-F7F0-4FCB-8F9A-5C33742E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5517-7C1D-4F90-A1B8-BFDAC00F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D005-72D3-4BCF-8AC7-8C8BFFDC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7F4E-496E-4B72-988B-3C54F060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167D-53D9-4FF1-834E-B7E1669E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FCDD-6B4C-49C6-8548-CD1A2861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6A96-6142-4910-8E73-EC2ED6D7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C49E-2EC0-4C41-A150-D1FA0788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67AA-5B50-4797-8310-FE60B6F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B6B7-CA18-40AC-A848-026B5A4477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a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02"/>
          <p:cNvPicPr/>
          <p:nvPr/>
        </p:nvPicPr>
        <p:blipFill>
          <a:blip r:embed="rId2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02"/>
          <p:cNvPicPr/>
          <p:nvPr/>
        </p:nvPicPr>
        <p:blipFill>
          <a:blip r:embed="rId3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4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5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03"/>
          <p:cNvPicPr/>
          <p:nvPr/>
        </p:nvPicPr>
        <p:blipFill>
          <a:blip r:embed="rId6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800100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5C88-4319-4201-B420-257F48D3E2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826920" y="162864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Оценочные техники и инструменты для формирующего оценив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Обязательный минимум знаний по предмету доводится до сведения каждого учащегося в виде информационного листа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Сдача образовательных минимумов по основным предметам является обязательной после освоения материала программы в течение каждой четверти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Образовательные минимумы проводятся по следующим предметам:</a:t>
            </a: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4, 5, 6, 7 и 8 классы (по русскому языку и математике);</a:t>
            </a: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9, 10, и 11 классы (по русскому языку и математике </a:t>
            </a: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и двум профильным предметам</a:t>
            </a: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)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Оценивание образовательного минимума осуществляется по зачетной системе, учащиеся </a:t>
            </a:r>
            <a:r>
              <a:rPr b="1" lang="en-US" sz="2000" spc="-1" strike="noStrike">
                <a:solidFill>
                  <a:srgbClr val="063c60"/>
                </a:solidFill>
                <a:latin typeface="Arial"/>
              </a:rPr>
              <a:t>получившие</a:t>
            </a: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 «незачет» в основной период сдачи минимумов, пересдают образовательный минимум до получения оценки «зачет»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000" spc="-1" strike="noStrike">
              <a:solidFill>
                <a:srgbClr val="063c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4"/>
          <p:cNvSpPr/>
          <p:nvPr/>
        </p:nvSpPr>
        <p:spPr>
          <a:xfrm>
            <a:off x="-11160" y="4491000"/>
            <a:ext cx="9155160" cy="2367000"/>
          </a:xfrm>
          <a:custGeom>
            <a:avLst/>
            <a:gdLst/>
            <a:ahLst/>
            <a:rect l="l" t="t" r="r" b="b"/>
            <a:pathLst>
              <a:path w="5767" h="1491">
                <a:moveTo>
                  <a:pt x="0" y="0"/>
                </a:moveTo>
                <a:cubicBezTo>
                  <a:pt x="3558" y="284"/>
                  <a:pt x="4809" y="771"/>
                  <a:pt x="5767" y="1049"/>
                </a:cubicBezTo>
                <a:lnTo>
                  <a:pt x="5767" y="1481"/>
                </a:lnTo>
                <a:lnTo>
                  <a:pt x="4310" y="1491"/>
                </a:lnTo>
                <a:cubicBezTo>
                  <a:pt x="3563" y="1061"/>
                  <a:pt x="2440" y="414"/>
                  <a:pt x="7" y="8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4d1ea"/>
              </a:gs>
              <a:gs pos="100000">
                <a:srgbClr val="5598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ьте уверены, что каждый ученик может стать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йте среду, способствующую партнёрству учителя и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йте оценивание, чтобы получать информацию об учении и препода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айте с учениками результаты оценивания и вместе устанавливайте ясные и достижимые учебны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йте обратную связь, помогая ученикам определить свои следующие шаги и то, как их осуществ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395280" y="1557360"/>
            <a:ext cx="360360" cy="358920"/>
            <a:chOff x="395280" y="1557360"/>
            <a:chExt cx="360360" cy="358920"/>
          </a:xfrm>
        </p:grpSpPr>
        <p:sp>
          <p:nvSpPr>
            <p:cNvPr id="189" name="Oval 7"/>
            <p:cNvSpPr/>
            <p:nvPr/>
          </p:nvSpPr>
          <p:spPr>
            <a:xfrm>
              <a:off x="395280" y="182916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8"/>
            <p:cNvSpPr/>
            <p:nvPr/>
          </p:nvSpPr>
          <p:spPr>
            <a:xfrm>
              <a:off x="395280" y="155736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9"/>
          <p:cNvGrpSpPr/>
          <p:nvPr/>
        </p:nvGrpSpPr>
        <p:grpSpPr>
          <a:xfrm>
            <a:off x="395280" y="2276640"/>
            <a:ext cx="360360" cy="358560"/>
            <a:chOff x="395280" y="2276640"/>
            <a:chExt cx="360360" cy="358560"/>
          </a:xfrm>
        </p:grpSpPr>
        <p:sp>
          <p:nvSpPr>
            <p:cNvPr id="192" name="Oval 10"/>
            <p:cNvSpPr/>
            <p:nvPr/>
          </p:nvSpPr>
          <p:spPr>
            <a:xfrm>
              <a:off x="395280" y="254844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"/>
            <p:cNvSpPr/>
            <p:nvPr/>
          </p:nvSpPr>
          <p:spPr>
            <a:xfrm>
              <a:off x="395280" y="2276640"/>
              <a:ext cx="360360" cy="35856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2"/>
          <p:cNvGrpSpPr/>
          <p:nvPr/>
        </p:nvGrpSpPr>
        <p:grpSpPr>
          <a:xfrm>
            <a:off x="395280" y="3068640"/>
            <a:ext cx="360360" cy="358920"/>
            <a:chOff x="395280" y="3068640"/>
            <a:chExt cx="360360" cy="358920"/>
          </a:xfrm>
        </p:grpSpPr>
        <p:sp>
          <p:nvSpPr>
            <p:cNvPr id="195" name="Oval 13"/>
            <p:cNvSpPr/>
            <p:nvPr/>
          </p:nvSpPr>
          <p:spPr>
            <a:xfrm>
              <a:off x="395280" y="334044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4"/>
            <p:cNvSpPr/>
            <p:nvPr/>
          </p:nvSpPr>
          <p:spPr>
            <a:xfrm>
              <a:off x="395280" y="306864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5"/>
          <p:cNvGrpSpPr/>
          <p:nvPr/>
        </p:nvGrpSpPr>
        <p:grpSpPr>
          <a:xfrm>
            <a:off x="395280" y="3860640"/>
            <a:ext cx="360360" cy="358920"/>
            <a:chOff x="395280" y="3860640"/>
            <a:chExt cx="360360" cy="358920"/>
          </a:xfrm>
        </p:grpSpPr>
        <p:sp>
          <p:nvSpPr>
            <p:cNvPr id="198" name="Oval 16"/>
            <p:cNvSpPr/>
            <p:nvPr/>
          </p:nvSpPr>
          <p:spPr>
            <a:xfrm>
              <a:off x="395280" y="413244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7"/>
            <p:cNvSpPr/>
            <p:nvPr/>
          </p:nvSpPr>
          <p:spPr>
            <a:xfrm>
              <a:off x="395280" y="386064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395280" y="4941720"/>
            <a:ext cx="360360" cy="358920"/>
            <a:chOff x="395280" y="4941720"/>
            <a:chExt cx="360360" cy="358920"/>
          </a:xfrm>
        </p:grpSpPr>
        <p:sp>
          <p:nvSpPr>
            <p:cNvPr id="201" name="Oval 19"/>
            <p:cNvSpPr/>
            <p:nvPr/>
          </p:nvSpPr>
          <p:spPr>
            <a:xfrm>
              <a:off x="395280" y="521352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0"/>
            <p:cNvSpPr/>
            <p:nvPr/>
          </p:nvSpPr>
          <p:spPr>
            <a:xfrm>
              <a:off x="395280" y="494172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1280" y="404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комендации учите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3"/>
          <p:cNvSpPr/>
          <p:nvPr/>
        </p:nvSpPr>
        <p:spPr>
          <a:xfrm>
            <a:off x="324000" y="5300640"/>
            <a:ext cx="1015920" cy="115560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 rot="10800000">
            <a:off x="3203640" y="2636640"/>
            <a:ext cx="1008000" cy="12999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299960"/>
              <a:gd name="textAreaBottom" fmla="*/ 1300320 h 129996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Rectangle 5"/>
          <p:cNvGrpSpPr/>
          <p:nvPr/>
        </p:nvGrpSpPr>
        <p:grpSpPr>
          <a:xfrm>
            <a:off x="390600" y="2700360"/>
            <a:ext cx="3754440" cy="3670200"/>
            <a:chOff x="390600" y="2700360"/>
            <a:chExt cx="3754440" cy="3670200"/>
          </a:xfrm>
        </p:grpSpPr>
        <p:pic>
          <p:nvPicPr>
            <p:cNvPr id="102" name="Rectangle 5" descr=""/>
            <p:cNvPicPr/>
            <p:nvPr/>
          </p:nvPicPr>
          <p:blipFill>
            <a:blip r:embed="rId1"/>
            <a:stretch/>
          </p:blipFill>
          <p:spPr>
            <a:xfrm>
              <a:off x="390600" y="2700360"/>
              <a:ext cx="375444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95280" y="2708280"/>
              <a:ext cx="374328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ценка применяется для получения данных о текущем состоянии для определения ближайших шагов в направлении улучшения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6"/>
          <p:cNvSpPr/>
          <p:nvPr/>
        </p:nvSpPr>
        <p:spPr>
          <a:xfrm>
            <a:off x="4643280" y="5229360"/>
            <a:ext cx="1016280" cy="1155600"/>
          </a:xfrm>
          <a:custGeom>
            <a:avLst/>
            <a:gdLst>
              <a:gd name="textAreaLeft" fmla="*/ 0 w 1016280"/>
              <a:gd name="textAreaRight" fmla="*/ 1016640 w 10162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 rot="10800000">
            <a:off x="7451640" y="2637000"/>
            <a:ext cx="1015920" cy="115560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ectangle 8"/>
          <p:cNvGrpSpPr/>
          <p:nvPr/>
        </p:nvGrpSpPr>
        <p:grpSpPr>
          <a:xfrm>
            <a:off x="4711680" y="2700360"/>
            <a:ext cx="3683160" cy="3597120"/>
            <a:chOff x="4711680" y="2700360"/>
            <a:chExt cx="3683160" cy="3597120"/>
          </a:xfrm>
        </p:grpSpPr>
        <p:pic>
          <p:nvPicPr>
            <p:cNvPr id="107" name="Rectangle 8" descr=""/>
            <p:cNvPicPr/>
            <p:nvPr/>
          </p:nvPicPr>
          <p:blipFill>
            <a:blip r:embed="rId2"/>
            <a:stretch/>
          </p:blipFill>
          <p:spPr>
            <a:xfrm>
              <a:off x="4711680" y="2700360"/>
              <a:ext cx="3683160" cy="35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716360" y="2708280"/>
              <a:ext cx="3672000" cy="35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ценка применяется для определения количества изученного материала за пройденный период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9"/>
          <p:cNvSpPr/>
          <p:nvPr/>
        </p:nvSpPr>
        <p:spPr>
          <a:xfrm>
            <a:off x="324000" y="1773360"/>
            <a:ext cx="3816360" cy="57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ирующее оцен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0" y="1844640"/>
            <a:ext cx="380880" cy="380880"/>
            <a:chOff x="0" y="1844640"/>
            <a:chExt cx="380880" cy="380880"/>
          </a:xfrm>
        </p:grpSpPr>
        <p:sp>
          <p:nvSpPr>
            <p:cNvPr id="111" name="Oval 11"/>
            <p:cNvSpPr/>
            <p:nvPr/>
          </p:nvSpPr>
          <p:spPr>
            <a:xfrm>
              <a:off x="0" y="18446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2"/>
            <p:cNvSpPr/>
            <p:nvPr/>
          </p:nvSpPr>
          <p:spPr>
            <a:xfrm>
              <a:off x="21600" y="18658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41040" y="18856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7aa6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4"/>
            <p:cNvSpPr/>
            <p:nvPr/>
          </p:nvSpPr>
          <p:spPr>
            <a:xfrm>
              <a:off x="41400" y="18860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5"/>
            <p:cNvSpPr/>
            <p:nvPr/>
          </p:nvSpPr>
          <p:spPr>
            <a:xfrm>
              <a:off x="60120" y="1904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6c5c3c"/>
                </a:gs>
                <a:gs pos="50000">
                  <a:srgbClr val="c7aa6f"/>
                </a:gs>
                <a:gs pos="100000">
                  <a:srgbClr val="6c5c3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6"/>
            <p:cNvSpPr/>
            <p:nvPr/>
          </p:nvSpPr>
          <p:spPr>
            <a:xfrm>
              <a:off x="60840" y="19054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25"/>
          <p:cNvSpPr/>
          <p:nvPr/>
        </p:nvSpPr>
        <p:spPr>
          <a:xfrm>
            <a:off x="4932360" y="1773360"/>
            <a:ext cx="34560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f84d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тоговое оцен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1"/>
          <p:cNvGrpSpPr/>
          <p:nvPr/>
        </p:nvGrpSpPr>
        <p:grpSpPr>
          <a:xfrm>
            <a:off x="4716360" y="1916280"/>
            <a:ext cx="381240" cy="380880"/>
            <a:chOff x="4716360" y="1916280"/>
            <a:chExt cx="381240" cy="380880"/>
          </a:xfrm>
        </p:grpSpPr>
        <p:sp>
          <p:nvSpPr>
            <p:cNvPr id="119" name="Oval 42"/>
            <p:cNvSpPr/>
            <p:nvPr/>
          </p:nvSpPr>
          <p:spPr>
            <a:xfrm>
              <a:off x="4716360" y="19162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>
              <a:off x="4737960" y="19375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>
              <a:off x="4757400" y="19573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7aa6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>
              <a:off x="4757760" y="19576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>
              <a:off x="4776840" y="19764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6c5c3c"/>
                </a:gs>
                <a:gs pos="50000">
                  <a:srgbClr val="c7aa6f"/>
                </a:gs>
                <a:gs pos="100000">
                  <a:srgbClr val="6c5c3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>
              <a:off x="4777560" y="19771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48"/>
          <p:cNvSpPr/>
          <p:nvPr/>
        </p:nvSpPr>
        <p:spPr>
          <a:xfrm>
            <a:off x="250920" y="1890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Два подхода к использованию 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Формирующее оценивание – </a:t>
            </a:r>
            <a:br>
              <a:rPr sz="3600"/>
            </a:b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это «оценивание для обучения»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557360"/>
            <a:ext cx="8317080" cy="165564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7559640" y="1557360"/>
            <a:ext cx="1583640" cy="1654920"/>
            <a:chOff x="7559640" y="1557360"/>
            <a:chExt cx="1583640" cy="1654920"/>
          </a:xfrm>
        </p:grpSpPr>
        <p:grpSp>
          <p:nvGrpSpPr>
            <p:cNvPr id="129" name="Group 5"/>
            <p:cNvGrpSpPr/>
            <p:nvPr/>
          </p:nvGrpSpPr>
          <p:grpSpPr>
            <a:xfrm>
              <a:off x="7559640" y="1557360"/>
              <a:ext cx="1583640" cy="1654920"/>
              <a:chOff x="7559640" y="1557360"/>
              <a:chExt cx="1583640" cy="1654920"/>
            </a:xfrm>
          </p:grpSpPr>
          <p:sp>
            <p:nvSpPr>
              <p:cNvPr id="130" name="Oval 6"/>
              <p:cNvSpPr/>
              <p:nvPr/>
            </p:nvSpPr>
            <p:spPr>
              <a:xfrm>
                <a:off x="7559640" y="1557360"/>
                <a:ext cx="1583640" cy="16549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7740720" y="1584720"/>
                <a:ext cx="1221480" cy="624600"/>
              </a:xfrm>
              <a:custGeom>
                <a:avLst/>
                <a:gdLst>
                  <a:gd name="textAreaLeft" fmla="*/ 0 w 1221480"/>
                  <a:gd name="textAreaRight" fmla="*/ 1221840 w 1221480"/>
                  <a:gd name="textAreaTop" fmla="*/ 0 h 624600"/>
                  <a:gd name="textAreaBottom" fmla="*/ 624960 h 624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8"/>
            <p:cNvSpPr/>
            <p:nvPr/>
          </p:nvSpPr>
          <p:spPr>
            <a:xfrm>
              <a:off x="8292960" y="1741320"/>
              <a:ext cx="1828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9"/>
          <p:cNvSpPr/>
          <p:nvPr/>
        </p:nvSpPr>
        <p:spPr>
          <a:xfrm>
            <a:off x="-1116000" y="1557360"/>
            <a:ext cx="84247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Оценивание – это механизм, обеспечивающий преподавателя информацией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которая нужна ему, чтобы совершенствовать преподавание, находить наиболее эффективные методы обучения, а также мотивировать учеников более активно  включиться в свое уч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3357720"/>
            <a:ext cx="7740720" cy="165564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7020000" y="3357720"/>
            <a:ext cx="1620000" cy="1656360"/>
            <a:chOff x="7020000" y="3357720"/>
            <a:chExt cx="1620000" cy="1656360"/>
          </a:xfrm>
        </p:grpSpPr>
        <p:grpSp>
          <p:nvGrpSpPr>
            <p:cNvPr id="136" name="Group 12"/>
            <p:cNvGrpSpPr/>
            <p:nvPr/>
          </p:nvGrpSpPr>
          <p:grpSpPr>
            <a:xfrm>
              <a:off x="7020000" y="3357720"/>
              <a:ext cx="1620000" cy="1656360"/>
              <a:chOff x="7020000" y="3357720"/>
              <a:chExt cx="1620000" cy="165636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7020000" y="3357720"/>
                <a:ext cx="1620000" cy="165636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4"/>
              <p:cNvSpPr/>
              <p:nvPr/>
            </p:nvSpPr>
            <p:spPr>
              <a:xfrm>
                <a:off x="7205040" y="3385080"/>
                <a:ext cx="1249560" cy="624960"/>
              </a:xfrm>
              <a:custGeom>
                <a:avLst/>
                <a:gdLst>
                  <a:gd name="textAreaLeft" fmla="*/ 0 w 1249560"/>
                  <a:gd name="textAreaRight" fmla="*/ 1249560 w 124956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15"/>
            <p:cNvSpPr/>
            <p:nvPr/>
          </p:nvSpPr>
          <p:spPr>
            <a:xfrm>
              <a:off x="7724520" y="3585240"/>
              <a:ext cx="180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23"/>
          <p:cNvSpPr/>
          <p:nvPr/>
        </p:nvSpPr>
        <p:spPr>
          <a:xfrm>
            <a:off x="3492360" y="429264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0" y="5229360"/>
            <a:ext cx="7056360" cy="151272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5"/>
          <p:cNvGrpSpPr/>
          <p:nvPr/>
        </p:nvGrpSpPr>
        <p:grpSpPr>
          <a:xfrm>
            <a:off x="6372360" y="5157720"/>
            <a:ext cx="1584360" cy="1584360"/>
            <a:chOff x="6372360" y="5157720"/>
            <a:chExt cx="1584360" cy="1584360"/>
          </a:xfrm>
        </p:grpSpPr>
        <p:sp>
          <p:nvSpPr>
            <p:cNvPr id="143" name="Oval 26"/>
            <p:cNvSpPr/>
            <p:nvPr/>
          </p:nvSpPr>
          <p:spPr>
            <a:xfrm>
              <a:off x="6372360" y="5157720"/>
              <a:ext cx="1584360" cy="15843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6553440" y="5184000"/>
              <a:ext cx="1222200" cy="597960"/>
            </a:xfrm>
            <a:custGeom>
              <a:avLst/>
              <a:gdLst>
                <a:gd name="textAreaLeft" fmla="*/ 0 w 1222200"/>
                <a:gd name="textAreaRight" fmla="*/ 1222560 w 1222200"/>
                <a:gd name="textAreaTop" fmla="*/ 0 h 597960"/>
                <a:gd name="textAreaBottom" fmla="*/ 598320 h 5979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31"/>
          <p:cNvSpPr/>
          <p:nvPr/>
        </p:nvSpPr>
        <p:spPr>
          <a:xfrm>
            <a:off x="250920" y="3357720"/>
            <a:ext cx="7488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Оценивание – это обратная связь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Оно дает информацию о том, чему ученики обучились и как учатся в данный момент, а также о том, в какой степени преподаватель реализовал поставленные учебные цели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324000" y="5300640"/>
            <a:ext cx="64800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Оценивание направляет учени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: выполнив задания, ученики узнают о том, какого уровня они достигли, пройдя тот или иной курс, и в каком направлении им нужно двигаться дальш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37"/>
          <p:cNvSpPr/>
          <p:nvPr/>
        </p:nvSpPr>
        <p:spPr>
          <a:xfrm>
            <a:off x="-11160" y="4491000"/>
            <a:ext cx="9155160" cy="2367000"/>
          </a:xfrm>
          <a:custGeom>
            <a:avLst/>
            <a:gdLst/>
            <a:ahLst/>
            <a:rect l="l" t="t" r="r" b="b"/>
            <a:pathLst>
              <a:path w="5767" h="1491">
                <a:moveTo>
                  <a:pt x="0" y="0"/>
                </a:moveTo>
                <a:cubicBezTo>
                  <a:pt x="3558" y="284"/>
                  <a:pt x="4809" y="771"/>
                  <a:pt x="5767" y="1049"/>
                </a:cubicBezTo>
                <a:lnTo>
                  <a:pt x="5767" y="1481"/>
                </a:lnTo>
                <a:lnTo>
                  <a:pt x="4310" y="1491"/>
                </a:lnTo>
                <a:cubicBezTo>
                  <a:pt x="3563" y="1061"/>
                  <a:pt x="2440" y="414"/>
                  <a:pt x="7" y="8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4d1ea"/>
              </a:gs>
              <a:gs pos="100000">
                <a:srgbClr val="5598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Техники формирующего оценивания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4000" y="3357720"/>
            <a:ext cx="2543040" cy="1311120"/>
          </a:xfrm>
          <a:prstGeom prst="roundRect">
            <a:avLst>
              <a:gd name="adj" fmla="val 12699"/>
            </a:avLst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95280" y="3573360"/>
            <a:ext cx="244800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79280" y="371628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осники самодиагност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1042920" y="1628640"/>
            <a:ext cx="2543400" cy="1295640"/>
          </a:xfrm>
          <a:prstGeom prst="roundRect">
            <a:avLst>
              <a:gd name="adj" fmla="val 12699"/>
            </a:avLst>
          </a:prstGeom>
          <a:solidFill>
            <a:srgbClr val="9e6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1116000" y="1773360"/>
            <a:ext cx="24084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258920" y="191628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льные от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6443640" y="3716280"/>
            <a:ext cx="2543040" cy="1154160"/>
          </a:xfrm>
          <a:prstGeom prst="roundRect">
            <a:avLst>
              <a:gd name="adj" fmla="val 12699"/>
            </a:avLst>
          </a:prstGeom>
          <a:solidFill>
            <a:srgbClr val="c7aa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6516720" y="4005360"/>
            <a:ext cx="24080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475320" y="4443480"/>
            <a:ext cx="165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588000" y="407664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б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971640" y="5300640"/>
            <a:ext cx="2543040" cy="1225440"/>
          </a:xfrm>
          <a:prstGeom prst="roundRect">
            <a:avLst>
              <a:gd name="adj" fmla="val 12699"/>
            </a:avLst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7"/>
          <p:cNvSpPr/>
          <p:nvPr/>
        </p:nvSpPr>
        <p:spPr>
          <a:xfrm>
            <a:off x="1042920" y="5516640"/>
            <a:ext cx="24084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116000" y="573408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2763360" y="2258280"/>
            <a:ext cx="3635640" cy="3620160"/>
            <a:chOff x="2763360" y="2258280"/>
            <a:chExt cx="3635640" cy="3620160"/>
          </a:xfrm>
        </p:grpSpPr>
        <p:sp>
          <p:nvSpPr>
            <p:cNvPr id="163" name="AutoShape 21"/>
            <p:cNvSpPr/>
            <p:nvPr/>
          </p:nvSpPr>
          <p:spPr>
            <a:xfrm rot="6774000">
              <a:off x="3228480" y="2809800"/>
              <a:ext cx="2679480" cy="264132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7aa6f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rot="12174000">
              <a:off x="3171600" y="279216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598cf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 rot="17574600">
              <a:off x="3268080" y="2685240"/>
              <a:ext cx="2679480" cy="264132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a060b"/>
                </a:gs>
                <a:gs pos="100000">
                  <a:srgbClr val="9e65b7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24"/>
            <p:cNvSpPr/>
            <p:nvPr/>
          </p:nvSpPr>
          <p:spPr>
            <a:xfrm rot="1374000">
              <a:off x="3310920" y="27424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aad955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27"/>
          <p:cNvSpPr/>
          <p:nvPr/>
        </p:nvSpPr>
        <p:spPr>
          <a:xfrm>
            <a:off x="6012000" y="1773360"/>
            <a:ext cx="2543040" cy="1296720"/>
          </a:xfrm>
          <a:prstGeom prst="roundRect">
            <a:avLst>
              <a:gd name="adj" fmla="val 12699"/>
            </a:avLst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8"/>
          <p:cNvSpPr/>
          <p:nvPr/>
        </p:nvSpPr>
        <p:spPr>
          <a:xfrm>
            <a:off x="6084720" y="2060640"/>
            <a:ext cx="24084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6227640" y="2205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ы по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0"/>
          <p:cNvSpPr/>
          <p:nvPr/>
        </p:nvSpPr>
        <p:spPr>
          <a:xfrm>
            <a:off x="5508720" y="5300640"/>
            <a:ext cx="2543040" cy="1368360"/>
          </a:xfrm>
          <a:prstGeom prst="roundRect">
            <a:avLst>
              <a:gd name="adj" fmla="val 12699"/>
            </a:avLst>
          </a:prstGeom>
          <a:solidFill>
            <a:srgbClr val="9e6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5580000" y="544500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5580000" y="544500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5651640" y="558972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те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Georgia"/>
              </a:rPr>
              <a:t>Портфолио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141300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диционная форма портфолио представляет собой коллекцию работ, целью которой является демонстрация образовательных достижений учащегося, являясь по сути альтернативным по отношению к традиционным формам (тест, экзамен) способом оценивания, портфолио позволяет решить две 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следить индивидуальный прогресс учащегося, достигнутый им в процессе обучения, вне сравнения с достижениями других учени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ценить его образовательные достижения и дополнить (заменить) результаты тестирования и других х форм контро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Тетрадь формирования и отслеживания предметных и метапредметных умений.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663560"/>
          <a:ext cx="8496360" cy="5011920"/>
        </p:xfrm>
        <a:graphic>
          <a:graphicData uri="http://schemas.openxmlformats.org/drawingml/2006/table">
            <a:tbl>
              <a:tblPr/>
              <a:tblGrid>
                <a:gridCol w="242640"/>
                <a:gridCol w="1533600"/>
                <a:gridCol w="439920"/>
                <a:gridCol w="441360"/>
                <a:gridCol w="439560"/>
                <a:gridCol w="441360"/>
                <a:gridCol w="328680"/>
                <a:gridCol w="326880"/>
                <a:gridCol w="330120"/>
                <a:gridCol w="328680"/>
                <a:gridCol w="341280"/>
                <a:gridCol w="343080"/>
                <a:gridCol w="328680"/>
                <a:gridCol w="328320"/>
                <a:gridCol w="328680"/>
                <a:gridCol w="328680"/>
                <a:gridCol w="328680"/>
                <a:gridCol w="330120"/>
                <a:gridCol w="328680"/>
                <a:gridCol w="328680"/>
                <a:gridCol w="328680"/>
              </a:tblGrid>
              <a:tr h="175320">
                <a:tc row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амилия И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</a:tr>
              <a:tr h="213840"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960"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Педагогическая диагностика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дагогическая диагностика – это совокупность специально подобранных и систематизированных заданий, которые позво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особенности усвоения учащимися предметных знаний, умений и нав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характер трудностей ученика и установить их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уровень овладения учебной деятель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ть изменения, происходящие в развити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Мониторинг-карта развития учащегося ФГОС</a:t>
            </a:r>
            <a:br>
              <a:rPr sz="2800"/>
            </a:b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484280"/>
          <a:ext cx="5348160" cy="171360"/>
        </p:xfrm>
        <a:graphic>
          <a:graphicData uri="http://schemas.openxmlformats.org/drawingml/2006/table">
            <a:tbl>
              <a:tblPr/>
              <a:tblGrid>
                <a:gridCol w="345960"/>
                <a:gridCol w="1268280"/>
                <a:gridCol w="352440"/>
                <a:gridCol w="1400400"/>
                <a:gridCol w="309600"/>
                <a:gridCol w="1671480"/>
              </a:tblGrid>
              <a:tr h="1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Таблица 6" descr=""/>
          <p:cNvPicPr/>
          <p:nvPr/>
        </p:nvPicPr>
        <p:blipFill>
          <a:blip r:embed="rId1"/>
          <a:stretch/>
        </p:blipFill>
        <p:spPr>
          <a:xfrm>
            <a:off x="244440" y="1809720"/>
            <a:ext cx="87235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Методика «Образовательный минимум»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одной из возможных форм контроля предметных знаний учащихся и предоставляет широкие возможности для повышения эффективности внутренних систем оценки качества образования в современных образовательных организ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й миниму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минимальная часть предметных знаний, которую обучающийся должен усвоить на определенном этапе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й минимум может включать в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базовых понятий, ключевых терми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иро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сиом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, закономерностей и т.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ие формулы, выражения и нераве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ы решения задач, действий и т.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ческие д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, таблицы, схемы 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видов объектов или проце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20:44:27Z</dcterms:created>
  <dc:creator>Aelita</dc:creator>
  <dc:description/>
  <dc:language>en-US</dc:language>
  <cp:lastModifiedBy>Учитель</cp:lastModifiedBy>
  <dcterms:modified xsi:type="dcterms:W3CDTF">2018-01-29T05:55:00Z</dcterms:modified>
  <cp:revision>54</cp:revision>
  <dc:subject/>
  <dc:title>Themegallery PowerTemplate</dc:title>
</cp:coreProperties>
</file>